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D3E-257E-4D11-9E23-0A2BC2BE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E27-5C9B-4C07-84FD-55596B6A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AEF-2FCC-44BA-A5B5-DA32B68C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E3B-2994-4976-B714-FD4CC473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4686-345C-4929-96A3-E7E9BFAE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72D-E924-469D-AE9A-17C1B281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2EB2-121D-4748-ACD4-4FB0276F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5D25-0811-4B9A-80A6-930ED752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877A-4D9B-4F6C-9844-3A5E6EEF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4340-C089-476B-89FC-275E24F4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E1E0-4287-40A2-BF96-A8B453D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D5D-B84C-4123-A8DC-B58934E0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FE91-7002-40E3-82E0-C2E334D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5F14-E53E-4392-8C91-24E95E42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C546-DB0E-4744-9E15-DB21AF90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2CF2-BA21-40F0-A482-EC9F7BBC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0881-9CCF-4ADA-B71C-56EEA3BA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598-F0FD-4872-9453-DEA7A1C7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B8C-2D22-4897-BA7E-F002826F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509-05D9-418F-8AF8-EFBD2D1E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5F1-15DF-4E26-902B-71E8BDAE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B98-1D1A-47E0-B80B-D798AA06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6A8-1FE1-45F2-8987-28FFADC1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68D-F0EF-4FD9-9E21-8017805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B381-03B6-47CE-A048-ED6BB1DC901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67ED-BB33-4DEF-AAC4-631C6EFA80D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5800" y="6858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odoni MT Black"/>
              </a:rPr>
              <a:t>Be a sequence detective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C:\Users\Erica\AppData\Local\Microsoft\Windows\Temporary Internet Files\Content.IE5\KLJG6L6A\MCj03838120000[1].wmf"/>
          <p:cNvPicPr/>
          <p:nvPr/>
        </p:nvPicPr>
        <p:blipFill>
          <a:blip r:embed="rId1"/>
          <a:stretch/>
        </p:blipFill>
        <p:spPr>
          <a:xfrm>
            <a:off x="304920" y="0"/>
            <a:ext cx="243828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fter the game, we traded some baseball cards, and then he said he wanted to ask me something.  After he finished talking, we walked to the bus stop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 the game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we traded some baseball cards, and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n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he said he wanted to ask me something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he finished talking, we walked to the bus stop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next morning, I was able to answer his question.  My parents said that I would go to his family’s apartment to have dinner with him on his birthday, December 6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 next morning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I was able to answer his question.  My parents said that I would go to his family’s apartment to have dinner with him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on his birthday, December 6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85800" y="6858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</a:t>
            </a: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 is the order in which events happen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85800" y="685800"/>
            <a:ext cx="79246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Certain words can give you clues about the </a:t>
            </a: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 </a:t>
            </a: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of events</a:t>
            </a:r>
            <a:r>
              <a:rPr b="1" lang="en-US" sz="8000" spc="-1" strike="noStrike">
                <a:solidFill>
                  <a:srgbClr val="6bb1c9"/>
                </a:solidFill>
                <a:latin typeface="Century Gothic"/>
              </a:rPr>
              <a:t>.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685800"/>
            <a:ext cx="792468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Sequencing Words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fir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ex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th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final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9" descr="C:\Users\Erica\AppData\Local\Microsoft\Windows\Temporary Internet Files\Content.IE5\UYLZ9YIY\MCj02873150000[1].wmf"/>
          <p:cNvPicPr/>
          <p:nvPr/>
        </p:nvPicPr>
        <p:blipFill>
          <a:blip r:embed="rId1"/>
          <a:stretch/>
        </p:blipFill>
        <p:spPr>
          <a:xfrm>
            <a:off x="380880" y="2438280"/>
            <a:ext cx="355284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entury Gothic"/>
              </a:rPr>
              <a:t>Sequencing Expressions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n the morning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After that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Later that day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Two weeks later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09480"/>
            <a:ext cx="9144000" cy="69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Other Words That Indicate Tim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yesterd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aturd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Apri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win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62120"/>
            <a:ext cx="9144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Now be a </a:t>
            </a: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sequence detective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.  See if you can spot the clue words in the following stor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C:\Users\Erica\AppData\Local\Microsoft\Windows\Temporary Internet Files\Content.IE5\TR5FXXTK\MCj02503920000[1].wmf"/>
          <p:cNvPicPr/>
          <p:nvPr/>
        </p:nvPicPr>
        <p:blipFill>
          <a:blip r:embed="rId1"/>
          <a:stretch/>
        </p:blipFill>
        <p:spPr>
          <a:xfrm>
            <a:off x="4114800" y="4619520"/>
            <a:ext cx="1981080" cy="2238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68580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ast Tuesday I met my new friend Mickey.  We were both in a ball game at recess.  I told him he had made a good catch during the game.  Later that day we played in a softball game.  We were on the same team and we won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40176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st Tuesday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I met my new friend Mickey.  We were both in a ball game at recess.  I told him he had made a good catch during the game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ter that day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we played in a softball game.  We were on the same team and we won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2:26:47Z</dcterms:created>
  <dc:creator>Resource User</dc:creator>
  <dc:description/>
  <dc:language>en-US</dc:language>
  <cp:lastModifiedBy>Erica Hatt</cp:lastModifiedBy>
  <dcterms:modified xsi:type="dcterms:W3CDTF">2009-03-03T19:44:54Z</dcterms:modified>
  <cp:revision>7</cp:revision>
  <dc:subject/>
  <dc:title>PowerPoint Presentation</dc:title>
</cp:coreProperties>
</file>